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8AEE6-21D7-4A7B-9B80-6BABD12407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818C6-442B-47AF-B16A-2EAFDF9D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A6761-87C2-4442-AA4F-23B6D76C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FC63-D139-4078-B2C0-41CD23C70D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1F3E9-11FE-4F4A-A807-40F1A2EF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D483-5968-4EB4-A064-E0A416C1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E38A0-9F22-47CE-B86D-CE0B9B88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B109F-E11E-4C0D-B76B-1BC751DD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8E909-6FB0-4680-82D1-A409D90D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0F56F-2C37-44AA-BA97-96A6ECC8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04FC-5B52-4EB8-B3FF-8DF007E9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53904-91C1-459B-96E6-78FD3ACB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732E-25D5-4458-B578-0061B63DF7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65516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颅脑损伤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7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王俊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行为恢复期的康复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躁动不安 ：排除原因 ，环境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异常行为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75920"/>
            <a:ext cx="805500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异常行为的康复护理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致性的治疗原则，减少破坏性行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当的鼓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责任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⑷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激发患者的兴趣和全身心投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⑸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变治疗环境，减少刺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认症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单侧忽略 ：①环境改变 ；②阅读训练 ；③加强患侧感觉输入 ；④所需物品放置在忽略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空间失认 ：①颜色失认 ；②面容失认 ；③方向失认 ；④结构失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erstman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综合征 ：①左右失认 ；②手指失认 ；③失读 ；④失写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用症的康复护理  ①结构性失用 ；②运动失用 ；③穿衣失用 ；④意念性失用 ；⑤意念运动性失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   ①内在记忆法 ；②外在辅助物记忆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48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注意力训练  ①猜测游戏 ；②删除作业 ；③时间感 ；④数目顺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解决问题能力的训练  ①指出报纸中的消息 ；②排列数字 ；③问题状况的处理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;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④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从一般到特殊的处理 ；⑤分类 ；⑥做预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评定及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5" name="Picture 6" descr="图片3"/>
          <p:cNvPicPr/>
          <p:nvPr/>
        </p:nvPicPr>
        <p:blipFill>
          <a:blip r:embed="rId1"/>
          <a:stretch/>
        </p:blipFill>
        <p:spPr>
          <a:xfrm>
            <a:off x="108000" y="1268280"/>
            <a:ext cx="4643280" cy="343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图片4"/>
          <p:cNvPicPr/>
          <p:nvPr/>
        </p:nvPicPr>
        <p:blipFill>
          <a:blip r:embed="rId2"/>
          <a:stretch/>
        </p:blipFill>
        <p:spPr>
          <a:xfrm>
            <a:off x="4788000" y="2708280"/>
            <a:ext cx="41050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及心理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4908" r="0" b="0"/>
          <a:stretch/>
        </p:blipFill>
        <p:spPr>
          <a:xfrm>
            <a:off x="4572000" y="1700280"/>
            <a:ext cx="45720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功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2" name="Picture 4" descr="图片5"/>
          <p:cNvPicPr/>
          <p:nvPr/>
        </p:nvPicPr>
        <p:blipFill>
          <a:blip r:embed="rId1"/>
          <a:stretch/>
        </p:blipFill>
        <p:spPr>
          <a:xfrm>
            <a:off x="395280" y="141300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图片6"/>
          <p:cNvPicPr/>
          <p:nvPr/>
        </p:nvPicPr>
        <p:blipFill>
          <a:blip r:embed="rId2"/>
          <a:stretch/>
        </p:blipFill>
        <p:spPr>
          <a:xfrm>
            <a:off x="4500720" y="2492280"/>
            <a:ext cx="43923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指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护理观察 ：精神状态、生命体征变化、认知功能障碍、言语功能障碍、运动感觉障碍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护理：体位排痰护理，皮肤护理，家庭康复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康复护理 ：合理的体位 ，预防并发症，吞咽障碍、构音障碍的护理指导 ，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是指由于创伤所致的脑部损伤，可导致意识丧失、记忆缺失及神经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损伤病因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直接或间接作用于头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病率高，死亡率高，致残率高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临床分型 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损伤性质分为开放性损伤和闭合性损伤 ，按病理机制分为原发性损伤和继发性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身体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瘫痪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失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震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平衡和直立反应的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感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脑神经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迟发性癫痫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力和集中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和学习能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知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和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行为上的紊乱和心理社会能力方面的功能低下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评定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颅脑损伤严重程度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lasgow coma scale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ost traumatic amnesia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功能及预后评测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asgow outcome scal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神经行为恢复阶段的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功能、言语功能、认知功能及心理等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904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格拉斯哥昏迷量表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8390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最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昏迷，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无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特重型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严重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中度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轻度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80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格拉斯哥预后量表 （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Glasgow outcome scale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413000"/>
          <a:ext cx="8610480" cy="493236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等级                                                             标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20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恢复良好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good recover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能恢复正常生活：生活能自理，成人可恢复   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%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工作能力，学生能继续学习，但可能仍存在轻微的神经或病理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moderat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日常生活能自理，可乘坐交通工具，在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门环境或机构可以从事某些工作或学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重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ever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生活不能自理，需他人照顾，严重精神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躯体残疾，但神志清醒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植物状态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egetable state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长期昏迷，可以有睁眼及周期性睁眼清醒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但大脑皮质无任何功能，呈去皮质状态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去脑强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dea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和无意识期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音乐刺激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穴位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语言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深、浅感觉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8:12:20Z</dcterms:modified>
  <cp:revision>97</cp:revision>
  <dc:subject/>
  <dc:title>内科护理学</dc:title>
</cp:coreProperties>
</file>